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88A4-E7C8-491C-85B3-3691EA61E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EA2E-7E49-4D9C-8BC1-E74E5EDE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B567-1430-448A-9BC4-10C37C89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050C-AF73-4B27-8829-291C28BE9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1D5D-C27E-4539-9E97-2F6D8324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86BD-F6FA-44D1-82ED-5696A3C4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11A4-965A-4E24-BBC4-E1FF5E5F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DA70-0BC1-4880-ABDD-70C8D931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AEC7-BA79-45EC-A8F5-017D7B12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D2AF-2077-4EC4-A38A-142224E5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B313-D81E-476F-8ED0-19517630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A275-DD62-4C0D-9D71-B120AD99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0587-4471-42D3-BE47-A9397F976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82680" y="2057400"/>
            <a:ext cx="1752480" cy="66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2895480"/>
            <a:ext cx="17528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629400" y="24382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2209680"/>
            <a:ext cx="190512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Bit Full 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4038480"/>
            <a:ext cx="1752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 Flip F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8120" y="2286000"/>
            <a:ext cx="838080" cy="76320"/>
          </a:xfrm>
          <a:prstGeom prst="rightArrow">
            <a:avLst>
              <a:gd name="adj1" fmla="val 50000"/>
              <a:gd name="adj2" fmla="val 2745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2971800"/>
            <a:ext cx="838080" cy="76320"/>
          </a:xfrm>
          <a:prstGeom prst="rightArrow">
            <a:avLst>
              <a:gd name="adj1" fmla="val 50000"/>
              <a:gd name="adj2" fmla="val 2745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91320" y="2514600"/>
            <a:ext cx="838080" cy="76320"/>
          </a:xfrm>
          <a:prstGeom prst="rightArrow">
            <a:avLst>
              <a:gd name="adj1" fmla="val 50000"/>
              <a:gd name="adj2" fmla="val 2745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1219320"/>
            <a:ext cx="533520" cy="838080"/>
          </a:xfrm>
          <a:prstGeom prst="downArrow">
            <a:avLst>
              <a:gd name="adj1" fmla="val 50000"/>
              <a:gd name="adj2" fmla="val 392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657600"/>
            <a:ext cx="533520" cy="838080"/>
          </a:xfrm>
          <a:prstGeom prst="upArrow">
            <a:avLst>
              <a:gd name="adj1" fmla="val 50000"/>
              <a:gd name="adj2" fmla="val 392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7238880" y="1600200"/>
            <a:ext cx="533520" cy="838080"/>
          </a:xfrm>
          <a:prstGeom prst="downArrow">
            <a:avLst>
              <a:gd name="adj1" fmla="val 50000"/>
              <a:gd name="adj2" fmla="val 392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070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3749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209680"/>
            <a:ext cx="685800" cy="76320"/>
          </a:xfrm>
          <a:prstGeom prst="rightArrow">
            <a:avLst>
              <a:gd name="adj1" fmla="val 50000"/>
              <a:gd name="adj2" fmla="val 2246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514600"/>
            <a:ext cx="685800" cy="76320"/>
          </a:xfrm>
          <a:prstGeom prst="rightArrow">
            <a:avLst>
              <a:gd name="adj1" fmla="val 50000"/>
              <a:gd name="adj2" fmla="val 2246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69160" y="51944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4800600"/>
            <a:ext cx="75960" cy="457200"/>
          </a:xfrm>
          <a:prstGeom prst="upArrow">
            <a:avLst>
              <a:gd name="adj1" fmla="val 50000"/>
              <a:gd name="adj2" fmla="val 1504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560" y="29973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314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124080"/>
            <a:ext cx="685800" cy="76320"/>
          </a:xfrm>
          <a:prstGeom prst="rightArrow">
            <a:avLst>
              <a:gd name="adj1" fmla="val 50000"/>
              <a:gd name="adj2" fmla="val 2246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3429000"/>
            <a:ext cx="685800" cy="76320"/>
          </a:xfrm>
          <a:prstGeom prst="rightArrow">
            <a:avLst>
              <a:gd name="adj1" fmla="val 50000"/>
              <a:gd name="adj2" fmla="val 2246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40760" y="3314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0120" y="2895480"/>
            <a:ext cx="75960" cy="457200"/>
          </a:xfrm>
          <a:prstGeom prst="upArrow">
            <a:avLst>
              <a:gd name="adj1" fmla="val 50000"/>
              <a:gd name="adj2" fmla="val 1504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62920" y="2895480"/>
            <a:ext cx="75960" cy="457200"/>
          </a:xfrm>
          <a:prstGeom prst="upArrow">
            <a:avLst>
              <a:gd name="adj1" fmla="val 50000"/>
              <a:gd name="adj2" fmla="val 1504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48440" y="3327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4800600"/>
            <a:ext cx="76320" cy="457200"/>
          </a:xfrm>
          <a:prstGeom prst="upArrow">
            <a:avLst>
              <a:gd name="adj1" fmla="val 50000"/>
              <a:gd name="adj2" fmla="val 149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00880" y="520704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3657600"/>
            <a:ext cx="76320" cy="457200"/>
          </a:xfrm>
          <a:prstGeom prst="upArrow">
            <a:avLst>
              <a:gd name="adj1" fmla="val 50000"/>
              <a:gd name="adj2" fmla="val 149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58920" y="408924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58920" y="1219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1523880"/>
            <a:ext cx="76320" cy="533520"/>
          </a:xfrm>
          <a:prstGeom prst="down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4343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3048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495680" y="3352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3657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4724280"/>
            <a:ext cx="3886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 = Parallel input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B = Parallel input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 = Parallel output from Sum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19810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67984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42080" y="223524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59436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: SERIAL ADDER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80880" y="457200"/>
            <a:ext cx="3505320" cy="307080"/>
            <a:chOff x="380880" y="457200"/>
            <a:chExt cx="3505320" cy="307080"/>
          </a:xfrm>
        </p:grpSpPr>
        <p:sp>
          <p:nvSpPr>
            <p:cNvPr id="84" name=""/>
            <p:cNvSpPr/>
            <p:nvPr/>
          </p:nvSpPr>
          <p:spPr>
            <a:xfrm>
              <a:off x="2666880" y="45720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K =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80880" y="533520"/>
              <a:ext cx="304920" cy="152280"/>
              <a:chOff x="380880" y="533520"/>
              <a:chExt cx="304920" cy="152280"/>
            </a:xfrm>
          </p:grpSpPr>
          <p:sp>
            <p:nvSpPr>
              <p:cNvPr id="86" name=""/>
              <p:cNvSpPr/>
              <p:nvPr/>
            </p:nvSpPr>
            <p:spPr>
              <a:xfrm>
                <a:off x="511560" y="533520"/>
                <a:ext cx="43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55120" y="6858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80880" y="53352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685800" y="533520"/>
              <a:ext cx="304920" cy="152280"/>
              <a:chOff x="685800" y="533520"/>
              <a:chExt cx="304920" cy="152280"/>
            </a:xfrm>
          </p:grpSpPr>
          <p:sp>
            <p:nvSpPr>
              <p:cNvPr id="90" name=""/>
              <p:cNvSpPr/>
              <p:nvPr/>
            </p:nvSpPr>
            <p:spPr>
              <a:xfrm>
                <a:off x="860040" y="53352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85800" y="6858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816120" y="533520"/>
                <a:ext cx="43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1600200" y="533520"/>
              <a:ext cx="304920" cy="152280"/>
              <a:chOff x="1600200" y="533520"/>
              <a:chExt cx="304920" cy="152280"/>
            </a:xfrm>
          </p:grpSpPr>
          <p:sp>
            <p:nvSpPr>
              <p:cNvPr id="94" name=""/>
              <p:cNvSpPr/>
              <p:nvPr/>
            </p:nvSpPr>
            <p:spPr>
              <a:xfrm>
                <a:off x="1730880" y="533520"/>
                <a:ext cx="43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774440" y="6858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600200" y="53352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905120" y="533520"/>
              <a:ext cx="304200" cy="152280"/>
              <a:chOff x="1905120" y="533520"/>
              <a:chExt cx="304200" cy="152280"/>
            </a:xfrm>
          </p:grpSpPr>
          <p:sp>
            <p:nvSpPr>
              <p:cNvPr id="98" name=""/>
              <p:cNvSpPr/>
              <p:nvPr/>
            </p:nvSpPr>
            <p:spPr>
              <a:xfrm>
                <a:off x="2079000" y="53352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905120" y="68580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2035080" y="533520"/>
                <a:ext cx="43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990720" y="533520"/>
              <a:ext cx="304200" cy="152280"/>
              <a:chOff x="990720" y="533520"/>
              <a:chExt cx="304200" cy="152280"/>
            </a:xfrm>
          </p:grpSpPr>
          <p:sp>
            <p:nvSpPr>
              <p:cNvPr id="102" name=""/>
              <p:cNvSpPr/>
              <p:nvPr/>
            </p:nvSpPr>
            <p:spPr>
              <a:xfrm>
                <a:off x="1121040" y="533520"/>
                <a:ext cx="4320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64600" y="68580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53352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1295280" y="533520"/>
              <a:ext cx="304920" cy="152280"/>
              <a:chOff x="1295280" y="533520"/>
              <a:chExt cx="304920" cy="152280"/>
            </a:xfrm>
          </p:grpSpPr>
          <p:sp>
            <p:nvSpPr>
              <p:cNvPr id="106" name=""/>
              <p:cNvSpPr/>
              <p:nvPr/>
            </p:nvSpPr>
            <p:spPr>
              <a:xfrm>
                <a:off x="1469520" y="53352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295280" y="6858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1425600" y="533520"/>
                <a:ext cx="43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2362320" y="609480"/>
              <a:ext cx="30456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80880" y="457200"/>
            <a:ext cx="3505320" cy="307080"/>
            <a:chOff x="380880" y="457200"/>
            <a:chExt cx="3505320" cy="307080"/>
          </a:xfrm>
        </p:grpSpPr>
        <p:sp>
          <p:nvSpPr>
            <p:cNvPr id="111" name=""/>
            <p:cNvSpPr/>
            <p:nvPr/>
          </p:nvSpPr>
          <p:spPr>
            <a:xfrm>
              <a:off x="2666880" y="45720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K =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80880" y="533520"/>
              <a:ext cx="304920" cy="152280"/>
              <a:chOff x="380880" y="533520"/>
              <a:chExt cx="304920" cy="152280"/>
            </a:xfrm>
          </p:grpSpPr>
          <p:sp>
            <p:nvSpPr>
              <p:cNvPr id="113" name=""/>
              <p:cNvSpPr/>
              <p:nvPr/>
            </p:nvSpPr>
            <p:spPr>
              <a:xfrm>
                <a:off x="511560" y="533520"/>
                <a:ext cx="43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55120" y="6858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80880" y="53352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85800" y="533520"/>
              <a:ext cx="304920" cy="152280"/>
              <a:chOff x="685800" y="533520"/>
              <a:chExt cx="304920" cy="152280"/>
            </a:xfrm>
          </p:grpSpPr>
          <p:sp>
            <p:nvSpPr>
              <p:cNvPr id="117" name=""/>
              <p:cNvSpPr/>
              <p:nvPr/>
            </p:nvSpPr>
            <p:spPr>
              <a:xfrm>
                <a:off x="860040" y="53352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85800" y="6858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816120" y="533520"/>
                <a:ext cx="43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1600200" y="533520"/>
              <a:ext cx="304920" cy="152280"/>
              <a:chOff x="1600200" y="533520"/>
              <a:chExt cx="304920" cy="152280"/>
            </a:xfrm>
          </p:grpSpPr>
          <p:sp>
            <p:nvSpPr>
              <p:cNvPr id="121" name=""/>
              <p:cNvSpPr/>
              <p:nvPr/>
            </p:nvSpPr>
            <p:spPr>
              <a:xfrm>
                <a:off x="1730880" y="533520"/>
                <a:ext cx="43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774440" y="6858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600200" y="53352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1905120" y="533520"/>
              <a:ext cx="304200" cy="152280"/>
              <a:chOff x="1905120" y="533520"/>
              <a:chExt cx="304200" cy="152280"/>
            </a:xfrm>
          </p:grpSpPr>
          <p:sp>
            <p:nvSpPr>
              <p:cNvPr id="125" name=""/>
              <p:cNvSpPr/>
              <p:nvPr/>
            </p:nvSpPr>
            <p:spPr>
              <a:xfrm>
                <a:off x="2079000" y="53352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905120" y="68580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2035080" y="533520"/>
                <a:ext cx="43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990720" y="533520"/>
              <a:ext cx="304200" cy="152280"/>
              <a:chOff x="990720" y="533520"/>
              <a:chExt cx="304200" cy="152280"/>
            </a:xfrm>
          </p:grpSpPr>
          <p:sp>
            <p:nvSpPr>
              <p:cNvPr id="129" name=""/>
              <p:cNvSpPr/>
              <p:nvPr/>
            </p:nvSpPr>
            <p:spPr>
              <a:xfrm>
                <a:off x="1121040" y="533520"/>
                <a:ext cx="4320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164600" y="68580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990720" y="53352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1295280" y="533520"/>
              <a:ext cx="304920" cy="152280"/>
              <a:chOff x="1295280" y="533520"/>
              <a:chExt cx="304920" cy="152280"/>
            </a:xfrm>
          </p:grpSpPr>
          <p:sp>
            <p:nvSpPr>
              <p:cNvPr id="133" name=""/>
              <p:cNvSpPr/>
              <p:nvPr/>
            </p:nvSpPr>
            <p:spPr>
              <a:xfrm>
                <a:off x="1469520" y="53352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295280" y="6858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1425600" y="533520"/>
                <a:ext cx="43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2362320" y="609480"/>
              <a:ext cx="30456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23888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38080" y="2438280"/>
            <a:ext cx="9907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A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2413080"/>
            <a:ext cx="12189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Ad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34320" y="3809880"/>
            <a:ext cx="11430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Bit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57800" y="3809880"/>
            <a:ext cx="9907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D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4479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15200" y="2362320"/>
            <a:ext cx="12193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Multipl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534520" y="2666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915400" y="2666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8077320" y="4038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6248160" y="4038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343400" y="4038480"/>
            <a:ext cx="914400" cy="0"/>
          </a:xfrm>
          <a:prstGeom prst="line">
            <a:avLst/>
          </a:prstGeom>
          <a:ln w="22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342900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800100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2952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04812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4956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85800" y="5105520"/>
            <a:ext cx="3505320" cy="307080"/>
            <a:chOff x="685800" y="5105520"/>
            <a:chExt cx="3505320" cy="307080"/>
          </a:xfrm>
        </p:grpSpPr>
        <p:sp>
          <p:nvSpPr>
            <p:cNvPr id="155" name=""/>
            <p:cNvSpPr/>
            <p:nvPr/>
          </p:nvSpPr>
          <p:spPr>
            <a:xfrm>
              <a:off x="2971800" y="510552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K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685800" y="5181480"/>
              <a:ext cx="304920" cy="151920"/>
              <a:chOff x="685800" y="5181480"/>
              <a:chExt cx="304920" cy="151920"/>
            </a:xfrm>
          </p:grpSpPr>
          <p:sp>
            <p:nvSpPr>
              <p:cNvPr id="157" name=""/>
              <p:cNvSpPr/>
              <p:nvPr/>
            </p:nvSpPr>
            <p:spPr>
              <a:xfrm>
                <a:off x="816480" y="5181480"/>
                <a:ext cx="435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60040" y="53334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85800" y="518148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990720" y="5181480"/>
              <a:ext cx="304920" cy="151920"/>
              <a:chOff x="990720" y="5181480"/>
              <a:chExt cx="304920" cy="151920"/>
            </a:xfrm>
          </p:grpSpPr>
          <p:sp>
            <p:nvSpPr>
              <p:cNvPr id="161" name=""/>
              <p:cNvSpPr/>
              <p:nvPr/>
            </p:nvSpPr>
            <p:spPr>
              <a:xfrm>
                <a:off x="1164960" y="518148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990720" y="53334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1121040" y="5181480"/>
                <a:ext cx="435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1905120" y="5181480"/>
              <a:ext cx="304920" cy="151920"/>
              <a:chOff x="1905120" y="5181480"/>
              <a:chExt cx="304920" cy="151920"/>
            </a:xfrm>
          </p:grpSpPr>
          <p:sp>
            <p:nvSpPr>
              <p:cNvPr id="165" name=""/>
              <p:cNvSpPr/>
              <p:nvPr/>
            </p:nvSpPr>
            <p:spPr>
              <a:xfrm>
                <a:off x="2035800" y="5181480"/>
                <a:ext cx="435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079360" y="53334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05120" y="518148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2210040" y="5181480"/>
              <a:ext cx="304200" cy="151920"/>
              <a:chOff x="2210040" y="5181480"/>
              <a:chExt cx="304200" cy="151920"/>
            </a:xfrm>
          </p:grpSpPr>
          <p:sp>
            <p:nvSpPr>
              <p:cNvPr id="169" name=""/>
              <p:cNvSpPr/>
              <p:nvPr/>
            </p:nvSpPr>
            <p:spPr>
              <a:xfrm>
                <a:off x="2383920" y="518148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210040" y="533340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2340000" y="5181480"/>
                <a:ext cx="435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1295640" y="5181480"/>
              <a:ext cx="304200" cy="151920"/>
              <a:chOff x="1295640" y="5181480"/>
              <a:chExt cx="304200" cy="151920"/>
            </a:xfrm>
          </p:grpSpPr>
          <p:sp>
            <p:nvSpPr>
              <p:cNvPr id="173" name=""/>
              <p:cNvSpPr/>
              <p:nvPr/>
            </p:nvSpPr>
            <p:spPr>
              <a:xfrm>
                <a:off x="1425960" y="5181480"/>
                <a:ext cx="4320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469520" y="533340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295640" y="518148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1600200" y="5181480"/>
              <a:ext cx="304920" cy="151920"/>
              <a:chOff x="1600200" y="5181480"/>
              <a:chExt cx="304920" cy="151920"/>
            </a:xfrm>
          </p:grpSpPr>
          <p:sp>
            <p:nvSpPr>
              <p:cNvPr id="177" name=""/>
              <p:cNvSpPr/>
              <p:nvPr/>
            </p:nvSpPr>
            <p:spPr>
              <a:xfrm>
                <a:off x="1774440" y="518148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600200" y="53334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1730520" y="5181480"/>
                <a:ext cx="435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2667240" y="5257440"/>
              <a:ext cx="30456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533520" y="32767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17524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48120" y="38862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10080" y="47242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62012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79132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76920" y="4572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57913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2. FULLY SERI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51240" y="2755800"/>
            <a:ext cx="1143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B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38680" y="2730600"/>
            <a:ext cx="1143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Bi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26080" y="2095560"/>
            <a:ext cx="1143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Bit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51240" y="2463840"/>
            <a:ext cx="1143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B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9424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94240" y="2882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92160" y="2184480"/>
            <a:ext cx="5181840" cy="1206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2743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4120" y="1295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341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loud"/>
          <p:cNvSpPr/>
          <p:nvPr/>
        </p:nvSpPr>
        <p:spPr>
          <a:xfrm>
            <a:off x="6019920" y="838080"/>
            <a:ext cx="228600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106668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bit input from other   part of c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Cloud"/>
          <p:cNvSpPr/>
          <p:nvPr/>
        </p:nvSpPr>
        <p:spPr>
          <a:xfrm>
            <a:off x="2362320" y="762120"/>
            <a:ext cx="228600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9144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bit input from other   part of c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209680" y="12193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4120" y="1295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09680" y="1219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41400" y="2819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8148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81680" y="2819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0866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7086600" y="2209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0958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905120" y="3276720"/>
            <a:ext cx="99036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38862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ulated Serial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1447920"/>
            <a:ext cx="0" cy="129528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2743200"/>
            <a:ext cx="304560" cy="0"/>
          </a:xfrm>
          <a:prstGeom prst="line">
            <a:avLst/>
          </a:prstGeom>
          <a:ln w="22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282680" y="2057400"/>
            <a:ext cx="1752480" cy="66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2895480"/>
            <a:ext cx="17528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94640" y="24382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86200" y="2209680"/>
            <a:ext cx="20574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 Kogge S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8120" y="22096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48120" y="29718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56200" y="2514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71600" y="1219320"/>
            <a:ext cx="533520" cy="838080"/>
          </a:xfrm>
          <a:prstGeom prst="downArrow">
            <a:avLst>
              <a:gd name="adj1" fmla="val 50000"/>
              <a:gd name="adj2" fmla="val 392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3657600"/>
            <a:ext cx="533520" cy="838080"/>
          </a:xfrm>
          <a:prstGeom prst="upArrow">
            <a:avLst>
              <a:gd name="adj1" fmla="val 50000"/>
              <a:gd name="adj2" fmla="val 392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070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2209680"/>
            <a:ext cx="685800" cy="76320"/>
          </a:xfrm>
          <a:prstGeom prst="rightArrow">
            <a:avLst>
              <a:gd name="adj1" fmla="val 50000"/>
              <a:gd name="adj2" fmla="val 2246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60" y="29973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124080"/>
            <a:ext cx="685800" cy="76320"/>
          </a:xfrm>
          <a:prstGeom prst="rightArrow">
            <a:avLst>
              <a:gd name="adj1" fmla="val 50000"/>
              <a:gd name="adj2" fmla="val 2246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66880" y="4572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 =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391520" y="2895480"/>
            <a:ext cx="75960" cy="457200"/>
          </a:xfrm>
          <a:prstGeom prst="upArrow">
            <a:avLst>
              <a:gd name="adj1" fmla="val 50000"/>
              <a:gd name="adj2" fmla="val 1504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77040" y="33148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0" y="3657600"/>
            <a:ext cx="76320" cy="457200"/>
          </a:xfrm>
          <a:prstGeom prst="upArrow">
            <a:avLst>
              <a:gd name="adj1" fmla="val 50000"/>
              <a:gd name="adj2" fmla="val 149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158920" y="408924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58920" y="1219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0" y="1523880"/>
            <a:ext cx="76320" cy="533520"/>
          </a:xfrm>
          <a:prstGeom prst="down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57600" y="4267080"/>
            <a:ext cx="3886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 = Parallel input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B = Parallel input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 = Parallel output from Sum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60720" y="19810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73320" y="271764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81760" y="22734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6386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3: PARALLEL ADDER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80880" y="533520"/>
            <a:ext cx="304920" cy="152280"/>
            <a:chOff x="380880" y="533520"/>
            <a:chExt cx="304920" cy="152280"/>
          </a:xfrm>
        </p:grpSpPr>
        <p:sp>
          <p:nvSpPr>
            <p:cNvPr id="244" name=""/>
            <p:cNvSpPr/>
            <p:nvPr/>
          </p:nvSpPr>
          <p:spPr>
            <a:xfrm>
              <a:off x="511560" y="533520"/>
              <a:ext cx="43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5120" y="685800"/>
              <a:ext cx="13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0880" y="533520"/>
              <a:ext cx="13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85800" y="533520"/>
            <a:ext cx="304920" cy="152280"/>
            <a:chOff x="685800" y="533520"/>
            <a:chExt cx="304920" cy="152280"/>
          </a:xfrm>
        </p:grpSpPr>
        <p:sp>
          <p:nvSpPr>
            <p:cNvPr id="248" name=""/>
            <p:cNvSpPr/>
            <p:nvPr/>
          </p:nvSpPr>
          <p:spPr>
            <a:xfrm>
              <a:off x="860040" y="533520"/>
              <a:ext cx="13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5800" y="685800"/>
              <a:ext cx="13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816120" y="533520"/>
              <a:ext cx="43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600200" y="533520"/>
            <a:ext cx="304920" cy="152280"/>
            <a:chOff x="1600200" y="533520"/>
            <a:chExt cx="304920" cy="152280"/>
          </a:xfrm>
        </p:grpSpPr>
        <p:sp>
          <p:nvSpPr>
            <p:cNvPr id="252" name=""/>
            <p:cNvSpPr/>
            <p:nvPr/>
          </p:nvSpPr>
          <p:spPr>
            <a:xfrm>
              <a:off x="1730880" y="533520"/>
              <a:ext cx="43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74440" y="685800"/>
              <a:ext cx="13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00200" y="533520"/>
              <a:ext cx="13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905120" y="533520"/>
            <a:ext cx="304200" cy="152280"/>
            <a:chOff x="1905120" y="533520"/>
            <a:chExt cx="304200" cy="152280"/>
          </a:xfrm>
        </p:grpSpPr>
        <p:sp>
          <p:nvSpPr>
            <p:cNvPr id="256" name=""/>
            <p:cNvSpPr/>
            <p:nvPr/>
          </p:nvSpPr>
          <p:spPr>
            <a:xfrm>
              <a:off x="2079000" y="533520"/>
              <a:ext cx="130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05120" y="685800"/>
              <a:ext cx="130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2035080" y="533520"/>
              <a:ext cx="43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990720" y="533520"/>
            <a:ext cx="304200" cy="152280"/>
            <a:chOff x="990720" y="533520"/>
            <a:chExt cx="304200" cy="152280"/>
          </a:xfrm>
        </p:grpSpPr>
        <p:sp>
          <p:nvSpPr>
            <p:cNvPr id="260" name=""/>
            <p:cNvSpPr/>
            <p:nvPr/>
          </p:nvSpPr>
          <p:spPr>
            <a:xfrm>
              <a:off x="1121040" y="533520"/>
              <a:ext cx="432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64600" y="685800"/>
              <a:ext cx="130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90720" y="533520"/>
              <a:ext cx="130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295280" y="533520"/>
            <a:ext cx="304920" cy="152280"/>
            <a:chOff x="1295280" y="533520"/>
            <a:chExt cx="304920" cy="152280"/>
          </a:xfrm>
        </p:grpSpPr>
        <p:sp>
          <p:nvSpPr>
            <p:cNvPr id="264" name=""/>
            <p:cNvSpPr/>
            <p:nvPr/>
          </p:nvSpPr>
          <p:spPr>
            <a:xfrm>
              <a:off x="1469520" y="533520"/>
              <a:ext cx="13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95280" y="685800"/>
              <a:ext cx="13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1425600" y="533520"/>
              <a:ext cx="43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2362320" y="609480"/>
            <a:ext cx="30456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772400" y="2895480"/>
            <a:ext cx="76320" cy="457200"/>
          </a:xfrm>
          <a:prstGeom prst="upArrow">
            <a:avLst>
              <a:gd name="adj1" fmla="val 50000"/>
              <a:gd name="adj2" fmla="val 149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505640" y="3314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0800000">
            <a:off x="7238880" y="1600200"/>
            <a:ext cx="533520" cy="838080"/>
          </a:xfrm>
          <a:prstGeom prst="downArrow">
            <a:avLst>
              <a:gd name="adj1" fmla="val 50000"/>
              <a:gd name="adj2" fmla="val 392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2286000" y="990720"/>
          <a:ext cx="5486400" cy="37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990720"/>
                    <a:ext cx="5486400" cy="37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4343400" y="5257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676520" y="1371600"/>
          <a:ext cx="5924520" cy="314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371600"/>
                    <a:ext cx="592452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4343400" y="5257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1:59:04Z</dcterms:created>
  <dc:creator>Sudhanshu</dc:creator>
  <dc:description/>
  <dc:language>en-US</dc:language>
  <cp:lastModifiedBy>sk4fs</cp:lastModifiedBy>
  <dcterms:modified xsi:type="dcterms:W3CDTF">2008-10-16T18:00:52Z</dcterms:modified>
  <cp:revision>16</cp:revision>
  <dc:subject/>
  <dc:title>Slide 1</dc:title>
</cp:coreProperties>
</file>